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309-4CFF-426A-A46F-45D39CE4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CCA-D07C-42E5-9CA8-FAFE9E95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1E4-7F0B-4A8D-B705-9A0B43C3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4CF-B7FE-4517-B9EC-D2347531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605-8045-43BC-88A6-F18E9FBC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2C8-D94F-4A47-8CCF-D77A887E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473-08FE-4E39-9871-7F7F9782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7B0-C728-40C9-819E-BAF36635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496-F75B-45B5-BCCE-C4C2F26F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754-B8F9-4048-A61A-BB43481A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7C6-2DF5-4E64-8EBC-0E5DB459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49A-D0E6-4CE1-B39C-B8E5C286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1C8D-9667-481A-A021-432FD50B1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800600" y="43434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2857680" y="2571840"/>
            <a:ext cx="3429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t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4876920" y="411480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2743200" y="220968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to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18148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v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4800600" y="464832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>
            <a:off x="2666880" y="297180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9:28:50Z</dcterms:created>
  <dc:creator>teacher</dc:creator>
  <dc:description/>
  <dc:language>en-US</dc:language>
  <cp:lastModifiedBy>teacher</cp:lastModifiedBy>
  <dcterms:modified xsi:type="dcterms:W3CDTF">2010-11-18T19:51:27Z</dcterms:modified>
  <cp:revision>3</cp:revision>
  <dc:subject/>
  <dc:title>Slide 1</dc:title>
</cp:coreProperties>
</file>