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141-0888-40F8-8375-8A79AAEC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D6C-2921-402F-A647-EF116792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8BE-FB46-4F70-B64A-C4B2DEC9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5E3-84C9-4BBF-BD28-620DA74B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AF5-E412-4478-8871-0F30C9DB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683-3A6B-471C-A56E-AFF1FFC2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C6EE-31DE-4476-8FF9-0E816E36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3D04-1A70-4AC1-AEAA-8978CF28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1AD-44CE-4A90-A106-A0213ECB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E28-EDF9-40A2-8417-B66B72CA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175-45D2-4ED7-B415-C79DD1BE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384-85DF-44F3-BEB5-8ECCA3A1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988F-42F0-4CE9-9916-2F3D4F0B0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4800600" y="434340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5"/>
          <a:stretch/>
        </p:blipFill>
        <p:spPr>
          <a:xfrm>
            <a:off x="2857680" y="2571840"/>
            <a:ext cx="3429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t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609480" y="40384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4876920" y="411480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2743200" y="2209680"/>
            <a:ext cx="3429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ctob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5181480" y="10666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3429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v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4"/>
          <a:stretch/>
        </p:blipFill>
        <p:spPr>
          <a:xfrm>
            <a:off x="4800600" y="46483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>
            <a:off x="2666880" y="2971800"/>
            <a:ext cx="3429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9:28:50Z</dcterms:created>
  <dc:creator>teacher</dc:creator>
  <dc:description/>
  <dc:language>en-US</dc:language>
  <cp:lastModifiedBy>teacher</cp:lastModifiedBy>
  <dcterms:modified xsi:type="dcterms:W3CDTF">2010-11-18T19:51:27Z</dcterms:modified>
  <cp:revision>3</cp:revision>
  <dc:subject/>
  <dc:title>Slide 1</dc:title>
</cp:coreProperties>
</file>