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106-C0C7-435D-848A-7409414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E25-8A9A-4C9A-8315-4B3777D1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62C-9966-49CF-8262-A5E5BEB5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1FA-876F-4365-87E2-A1ADEC1D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1B6-320D-4B74-8590-D126C953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5C6-9825-41A2-8305-EF64CC3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761-D67E-4248-8247-BCC4AFDA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1D2-532A-49E6-9F4A-F0B8C303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968-5490-45FC-A168-400FA23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F19-E90C-4087-833C-8145C71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FF1-D5F8-4CD8-818D-B6C1F04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BD5-FC63-4B04-B8F5-E89EC06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E1B-6B66-44A0-87D2-F7148BEB3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2857680" y="257184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4876920" y="41148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480060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28:50Z</dcterms:created>
  <dc:creator>teacher</dc:creator>
  <dc:description/>
  <dc:language>en-US</dc:language>
  <cp:lastModifiedBy>teacher</cp:lastModifiedBy>
  <dcterms:modified xsi:type="dcterms:W3CDTF">2010-11-18T19:51:27Z</dcterms:modified>
  <cp:revision>3</cp:revision>
  <dc:subject/>
  <dc:title>Slide 1</dc:title>
</cp:coreProperties>
</file>