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7D9-3CE3-476F-BF8F-6EDEDAA5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620-0346-4277-8208-798E915D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DFD5-2E0B-4208-AD7F-12F133E0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E50-4754-449C-841E-DD0DB4E9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6D4-95BE-4DF6-B158-675B8DB3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D33C-E6E9-4765-A47C-1BC2C5C2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D5B-A923-41C4-B266-596606AC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EDD-ED74-4AB4-BC98-9AE784BD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431-BB7B-49C4-B747-837CE24D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6C6-72F2-4E91-8433-AF8DB5F8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838-2D92-449A-8AC1-B7DD1119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2D4-9CA4-45F7-8097-814C3189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13D8-52B1-4582-99AE-52D29FE76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4800600" y="434340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5"/>
          <a:stretch/>
        </p:blipFill>
        <p:spPr>
          <a:xfrm>
            <a:off x="2857680" y="2571840"/>
            <a:ext cx="3429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t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609480" y="40384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4876920" y="411480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2743200" y="2209680"/>
            <a:ext cx="3429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ctob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181480" y="10666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3429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v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4"/>
          <a:stretch/>
        </p:blipFill>
        <p:spPr>
          <a:xfrm>
            <a:off x="4800600" y="46483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>
            <a:off x="2666880" y="2971800"/>
            <a:ext cx="3429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9:28:50Z</dcterms:created>
  <dc:creator>teacher</dc:creator>
  <dc:description/>
  <dc:language>en-US</dc:language>
  <cp:lastModifiedBy>teacher</cp:lastModifiedBy>
  <dcterms:modified xsi:type="dcterms:W3CDTF">2010-11-18T19:51:27Z</dcterms:modified>
  <cp:revision>3</cp:revision>
  <dc:subject/>
  <dc:title>Slide 1</dc:title>
</cp:coreProperties>
</file>